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374-4B5B-414B-B84C-0150A682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7CD-36DA-44B2-B045-B9CEA65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B9D-8CD8-4690-BE5E-BBFC708B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64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52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64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52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158-1392-4C93-8876-68999E17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B27-2DFA-44FC-B896-6904E7F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2C0-AF63-4B27-A932-36F03307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9F2-4BC8-4C03-B800-A1D1DFF4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F3C-70D3-4E75-A94D-AE43564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39720"/>
            <a:ext cx="8553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AA9-5F69-4DD8-8F5E-67FA1F5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D4-31AF-45A7-9307-7ABE4BA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8E3-B104-439A-BD80-37D1A1B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FE6-1AB6-4B25-ADCD-1F3B6CB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6561000"/>
            <a:ext cx="318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BF93-CFBB-4A3B-A8A2-90AE938D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92480" y="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ัง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ความเช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ื่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มโยงแผนป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ฏิ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บัติราชการ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ี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 2555 – 2558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ของกรมสนับสนุ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249120"/>
            <a:ext cx="73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879480"/>
            <a:ext cx="565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ย่อยของ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70320"/>
            <a:ext cx="636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ประสงค์เชิงนโยบาย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765920" y="936720"/>
            <a:ext cx="194472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7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ขับเคลื่อนให้ประเทศไทยเป็นเลิศในผลิตภัณฑ์และการบริการด้านสุขภาพและการรักษาพยาบาลในภูมิภาคเอเชีย โดยประสานความร่วมมือกับทุกภาคส่วนที่เกี่ยวข้องในการสร้างความก้าวหน้าในทางวิชาการ และไม่ก่อให้เกิดผลกระทบกับบริการสุขภาพโดยรวมของคนไทย สนับสนุนเอกชนให้จัดบริการศูนย์พักฟื้นผู้ป่วยที่มีมาตรฐาน รวมทั้งแก้ไขปรับปรุงกฎระเบียบที่เกี่ยวข้องเพื่อให้มีการใช้บุคลากรทางการแพทย์ร่วมกันระหว่างภาครัฐและเอกชนให้เอื้ออำนวยต่อการดำเนินง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25560" y="2583000"/>
            <a:ext cx="194292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หลักประกันสุขภาพอย่างครอบคลุม มีคุณภาพ และมีโอกาสเข้าถึงบริการได้อย่างเท่าเทียมกั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68480" y="5184720"/>
            <a:ext cx="3600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1.</a:t>
            </a:r>
            <a:r>
              <a:rPr b="0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พฤติกรรมสุขภาพที่ถูกต้อง และอยู่ในสภาพแวดล้อมที่เหมาะสม  สามารถลดภาวะโรคและภัยคุกคาม ตลอดจนได้รับการคุ้มครองผู้บริโภคด้าน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535800" y="720720"/>
            <a:ext cx="109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3"/>
          <p:cNvSpPr/>
          <p:nvPr/>
        </p:nvSpPr>
        <p:spPr>
          <a:xfrm>
            <a:off x="0" y="2872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0" y="720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605560" y="5184720"/>
            <a:ext cx="4032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2.</a:t>
            </a:r>
            <a:r>
              <a:rPr b="0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ได้รับบริการสุขภาพทั้งในภาวะปกติและภาวะฉุกเฉินที่มีคุณภาพมาตรฐานอย่างทั่วถึงและเป็นธรร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0"/>
          <p:cNvSpPr/>
          <p:nvPr/>
        </p:nvSpPr>
        <p:spPr>
          <a:xfrm flipH="1">
            <a:off x="533520" y="287280"/>
            <a:ext cx="31680" cy="691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1"/>
          <p:cNvSpPr/>
          <p:nvPr/>
        </p:nvSpPr>
        <p:spPr>
          <a:xfrm>
            <a:off x="0" y="2448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0" y="3168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9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0"/>
          <p:cNvSpPr/>
          <p:nvPr/>
        </p:nvSpPr>
        <p:spPr>
          <a:xfrm>
            <a:off x="0" y="320760"/>
            <a:ext cx="0" cy="68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1"/>
          <p:cNvSpPr/>
          <p:nvPr/>
        </p:nvSpPr>
        <p:spPr>
          <a:xfrm>
            <a:off x="0" y="239760"/>
            <a:ext cx="0" cy="696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2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3"/>
          <p:cNvSpPr/>
          <p:nvPr/>
        </p:nvSpPr>
        <p:spPr>
          <a:xfrm>
            <a:off x="164448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029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9"/>
          <p:cNvSpPr/>
          <p:nvPr/>
        </p:nvSpPr>
        <p:spPr>
          <a:xfrm>
            <a:off x="60480" y="4176720"/>
            <a:ext cx="999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/>
          <p:cNvSpPr/>
          <p:nvPr/>
        </p:nvSpPr>
        <p:spPr>
          <a:xfrm>
            <a:off x="615960" y="57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6"/>
          <p:cNvSpPr/>
          <p:nvPr/>
        </p:nvSpPr>
        <p:spPr>
          <a:xfrm>
            <a:off x="-84240" y="6022800"/>
            <a:ext cx="70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-92160" y="3257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6"/>
          <p:cNvSpPr/>
          <p:nvPr/>
        </p:nvSpPr>
        <p:spPr>
          <a:xfrm>
            <a:off x="-49320" y="424980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ด็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1"/>
          <p:cNvSpPr/>
          <p:nvPr/>
        </p:nvSpPr>
        <p:spPr>
          <a:xfrm>
            <a:off x="7045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8"/>
          <p:cNvSpPr/>
          <p:nvPr/>
        </p:nvSpPr>
        <p:spPr>
          <a:xfrm>
            <a:off x="9277200" y="3816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5"/>
          <p:cNvSpPr/>
          <p:nvPr/>
        </p:nvSpPr>
        <p:spPr>
          <a:xfrm>
            <a:off x="5389560" y="1881360"/>
            <a:ext cx="86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25"/>
          <p:cNvSpPr/>
          <p:nvPr/>
        </p:nvSpPr>
        <p:spPr>
          <a:xfrm>
            <a:off x="848520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6"/>
          <p:cNvSpPr/>
          <p:nvPr/>
        </p:nvSpPr>
        <p:spPr>
          <a:xfrm>
            <a:off x="0" y="5040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8"/>
          <p:cNvSpPr/>
          <p:nvPr/>
        </p:nvSpPr>
        <p:spPr>
          <a:xfrm>
            <a:off x="2076480" y="4464000"/>
            <a:ext cx="6840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ระบบสุขภาพให้มีคุณภาพและมาตรฐานเพื่อให้ประชาชนมีสุขภาพด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636480" y="6121440"/>
            <a:ext cx="2952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1. 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ให้ประชาชนมีพฤติกรรมสุขภาพที่ถูกต้อง เหมาะสม และพัฒนาการส่งเสริมสุขภาพ ระบบเฝ้าระวัง ป้องกัน ควบคุมโรค ภัยสุขภาพ การฟื้นฟูสมรรถภาพและการคุ้มครองผู้บริโภคด้านสุขภาพให้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7"/>
          <p:cNvSpPr/>
          <p:nvPr/>
        </p:nvSpPr>
        <p:spPr>
          <a:xfrm>
            <a:off x="3373560" y="6769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2"/>
          <p:cNvSpPr/>
          <p:nvPr/>
        </p:nvSpPr>
        <p:spPr>
          <a:xfrm>
            <a:off x="7693200" y="5688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43"/>
          <p:cNvSpPr/>
          <p:nvPr/>
        </p:nvSpPr>
        <p:spPr>
          <a:xfrm>
            <a:off x="913284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44"/>
          <p:cNvSpPr/>
          <p:nvPr/>
        </p:nvSpPr>
        <p:spPr>
          <a:xfrm>
            <a:off x="1860480" y="59770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2"/>
          <p:cNvSpPr/>
          <p:nvPr/>
        </p:nvSpPr>
        <p:spPr>
          <a:xfrm>
            <a:off x="1357200" y="4248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4"/>
          <p:cNvSpPr/>
          <p:nvPr/>
        </p:nvSpPr>
        <p:spPr>
          <a:xfrm>
            <a:off x="7693200" y="48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8"/>
          <p:cNvSpPr/>
          <p:nvPr/>
        </p:nvSpPr>
        <p:spPr>
          <a:xfrm>
            <a:off x="2652840" y="48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60"/>
          <p:cNvSpPr/>
          <p:nvPr/>
        </p:nvSpPr>
        <p:spPr>
          <a:xfrm>
            <a:off x="5316480" y="4248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3"/>
          <p:cNvSpPr/>
          <p:nvPr/>
        </p:nvSpPr>
        <p:spPr>
          <a:xfrm>
            <a:off x="1860480" y="5977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5"/>
          <p:cNvSpPr/>
          <p:nvPr/>
        </p:nvSpPr>
        <p:spPr>
          <a:xfrm>
            <a:off x="2652840" y="5688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0"/>
          <p:cNvSpPr/>
          <p:nvPr/>
        </p:nvSpPr>
        <p:spPr>
          <a:xfrm>
            <a:off x="1357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75"/>
          <p:cNvSpPr/>
          <p:nvPr/>
        </p:nvSpPr>
        <p:spPr>
          <a:xfrm>
            <a:off x="0" y="5832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77"/>
          <p:cNvSpPr/>
          <p:nvPr/>
        </p:nvSpPr>
        <p:spPr>
          <a:xfrm>
            <a:off x="5316480" y="4753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80"/>
          <p:cNvSpPr/>
          <p:nvPr/>
        </p:nvSpPr>
        <p:spPr>
          <a:xfrm>
            <a:off x="708120" y="936720"/>
            <a:ext cx="2665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1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ลงทุนด้านบริการสุขภาพ โดยการพัฒนาคุณภาพการให้บริการสุขภาพทั้งระบบอย่างมีบูรณาการเชื่อมโยงในทุกระดับ จัดให้มีระบบสารสนเทศทางสาธารณสุขที่มีประสิทธิภาพ และเร่งผลิตบุคลากรทางการแพทย์และสาธารณสุข ให้เพียงพอกับปริมาณงานที่เพิ่มขึ้นตามข้อเท็จจริงในปัจจุบัน เพิ่มขีดความสามารถของโรงพยาบาลระดับต่าง ๆ โดยเฉพาะโรงพยาบาลศูนย์ความเป็นเลิศที่กระจายอยู่ในส่วนภูมิภาค และมีระบบการส่งต่อผู้ป่วยไปสู่โรงพยาบาลต่าง ๆ อย่างมีประสิทธิภาพ รวมทั้งสนับสนุนให้โรงพยาบาลในระดับต่าง ๆ มีเครื่องมืออุปกรณ์ทางการแพทย์และห้องปฏิบัติการวิทยาศาสตร์การแพทย์ที่ทันสมัย รวมทั้งพัฒนาสถานบริการปฐมภูมิในเขตเมืองและชนบทที่สมบูรณ์แบบทั่วประเท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5"/>
          <p:cNvSpPr/>
          <p:nvPr/>
        </p:nvSpPr>
        <p:spPr>
          <a:xfrm>
            <a:off x="0" y="3240000"/>
            <a:ext cx="565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ลยุทธ์</a:t>
            </a:r>
            <a:r>
              <a:rPr b="1" lang="en-US" sz="11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วิธีการรัฐบาล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6"/>
          <p:cNvSpPr/>
          <p:nvPr/>
        </p:nvSpPr>
        <p:spPr>
          <a:xfrm>
            <a:off x="636480" y="3314880"/>
            <a:ext cx="1728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ระบบบริการสุขภาพ คุณภาพการให้บริการ ศักยภาพของสถานพยาบาล และเทคโนโลยีทางการแพทย์ในการจัดบริการทุกระดั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7"/>
          <p:cNvSpPr/>
          <p:nvPr/>
        </p:nvSpPr>
        <p:spPr>
          <a:xfrm>
            <a:off x="4452840" y="3313080"/>
            <a:ext cx="1944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ขีดความสามารถของอาสาสมัครสาธารณสุข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ในการดำเนินกิจกรรมด้านสุขภาพ และสร้างเสริมเครือข่ายในการพัฒนาและแก้ไขปัญหาสาธารณสุขชุมชน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8"/>
          <p:cNvSpPr/>
          <p:nvPr/>
        </p:nvSpPr>
        <p:spPr>
          <a:xfrm>
            <a:off x="6684840" y="3313080"/>
            <a:ext cx="1440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คุณภาพผลิตภัณฑ์ยารักษาโรค วัคซีน สถานประกอบการธุรกิจบริการสุขภาพ บุคลากร และผลิตภัณฑ์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9"/>
          <p:cNvSpPr/>
          <p:nvPr/>
        </p:nvSpPr>
        <p:spPr>
          <a:xfrm>
            <a:off x="8413920" y="3313080"/>
            <a:ext cx="136836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กลไกควบคุมมาตรฐานบริการ</a:t>
            </a: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ลิตภัณฑ์และส่งเสริมมาตรฐานการผลิตผลิตภัณฑ์และการบริการสุขภาพ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92"/>
          <p:cNvSpPr/>
          <p:nvPr/>
        </p:nvSpPr>
        <p:spPr>
          <a:xfrm>
            <a:off x="1644480" y="2952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5"/>
          <p:cNvSpPr/>
          <p:nvPr/>
        </p:nvSpPr>
        <p:spPr>
          <a:xfrm>
            <a:off x="8485200" y="2952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6"/>
          <p:cNvSpPr/>
          <p:nvPr/>
        </p:nvSpPr>
        <p:spPr>
          <a:xfrm>
            <a:off x="740556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7"/>
          <p:cNvSpPr/>
          <p:nvPr/>
        </p:nvSpPr>
        <p:spPr>
          <a:xfrm>
            <a:off x="-71280" y="5040360"/>
            <a:ext cx="70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สงค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9"/>
          <p:cNvSpPr/>
          <p:nvPr/>
        </p:nvSpPr>
        <p:spPr>
          <a:xfrm>
            <a:off x="2652840" y="4896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0"/>
          <p:cNvSpPr/>
          <p:nvPr/>
        </p:nvSpPr>
        <p:spPr>
          <a:xfrm>
            <a:off x="3805200" y="6121440"/>
            <a:ext cx="26640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2. 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ศักยภาพของอาสาสมัครสาธารณสุข ภาคีเครือข่ายและองค์กรปกครองส่วนท้องถิ่นในการดำเนินกิจกรรมด้านสุขภาพ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1"/>
          <p:cNvSpPr/>
          <p:nvPr/>
        </p:nvSpPr>
        <p:spPr>
          <a:xfrm>
            <a:off x="6613560" y="6121440"/>
            <a:ext cx="2736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.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ระบบบริหารและระบบบริการทางการแพทย์และสาธารณสุข ทั้งภาวะปกติและภาวะฉุกเฉิน รวมทั้งผลิตบุคลากรด้านการแพทย์และสาธารณสุขให้เพียงพอ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15"/>
          <p:cNvSpPr/>
          <p:nvPr/>
        </p:nvSpPr>
        <p:spPr>
          <a:xfrm>
            <a:off x="1860480" y="6696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16"/>
          <p:cNvSpPr/>
          <p:nvPr/>
        </p:nvSpPr>
        <p:spPr>
          <a:xfrm>
            <a:off x="1860480" y="67690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18"/>
          <p:cNvSpPr/>
          <p:nvPr/>
        </p:nvSpPr>
        <p:spPr>
          <a:xfrm>
            <a:off x="2149560" y="792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19"/>
          <p:cNvSpPr/>
          <p:nvPr/>
        </p:nvSpPr>
        <p:spPr>
          <a:xfrm>
            <a:off x="2149560" y="792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1"/>
          <p:cNvSpPr/>
          <p:nvPr/>
        </p:nvSpPr>
        <p:spPr>
          <a:xfrm>
            <a:off x="4021200" y="360360"/>
            <a:ext cx="2509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 </a:t>
            </a: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การพัฒนาสุขภาพของประชาช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3"/>
          <p:cNvSpPr/>
          <p:nvPr/>
        </p:nvSpPr>
        <p:spPr>
          <a:xfrm>
            <a:off x="8485200" y="79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1"/>
          <p:cNvSpPr/>
          <p:nvPr/>
        </p:nvSpPr>
        <p:spPr>
          <a:xfrm>
            <a:off x="4524480" y="676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2"/>
          <p:cNvSpPr/>
          <p:nvPr/>
        </p:nvSpPr>
        <p:spPr>
          <a:xfrm>
            <a:off x="5821200" y="936720"/>
            <a:ext cx="172908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4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ขีดความสามารถของอาสาสมัครสาธารณสุขทุกคนให้เป็นนักจัดการสุขภาพชุมชน ขยายความครอบคลุมไปถึงกลุ่มผู้ด้อยโอกาส สนับสนุนอุปกรณ์พื้นฐานที่จำเป็นเพื่อให้สามารถเป็นกำลังสำคัญในการดูแลสุขภาพของคนในชุมชน พัฒนาแกนนำสุขภาพครอบครัวและการสาธารณสุขมูลฐาน ที่ชุมชน ท้องถิ่น     มีส่วนร่วมในการสร้างเสริมสุขภาพและจัดการปัญหาสุขภาพของตนเองได้อย่างเข้มแข็งและยั่งยืน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34"/>
          <p:cNvSpPr/>
          <p:nvPr/>
        </p:nvSpPr>
        <p:spPr>
          <a:xfrm>
            <a:off x="7405560" y="3095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35"/>
          <p:cNvSpPr/>
          <p:nvPr/>
        </p:nvSpPr>
        <p:spPr>
          <a:xfrm>
            <a:off x="4309920" y="2376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6"/>
          <p:cNvSpPr/>
          <p:nvPr/>
        </p:nvSpPr>
        <p:spPr>
          <a:xfrm>
            <a:off x="430848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8"/>
          <p:cNvSpPr/>
          <p:nvPr/>
        </p:nvSpPr>
        <p:spPr>
          <a:xfrm>
            <a:off x="5316480" y="647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2"/>
          <p:cNvSpPr/>
          <p:nvPr/>
        </p:nvSpPr>
        <p:spPr>
          <a:xfrm>
            <a:off x="4813200" y="6696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43"/>
          <p:cNvSpPr/>
          <p:nvPr/>
        </p:nvSpPr>
        <p:spPr>
          <a:xfrm>
            <a:off x="7693200" y="6696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4"/>
          <p:cNvSpPr/>
          <p:nvPr/>
        </p:nvSpPr>
        <p:spPr>
          <a:xfrm>
            <a:off x="4813200" y="5977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6"/>
          <p:cNvSpPr/>
          <p:nvPr/>
        </p:nvSpPr>
        <p:spPr>
          <a:xfrm>
            <a:off x="2724120" y="3314880"/>
            <a:ext cx="151308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ความรู้และพัฒนาทักษะในการดำเนินชีวิตและการสร้างเสริมสุขภาพที่จะนำไปสู่การดูแลตนเอง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4"/>
          <p:cNvSpPr/>
          <p:nvPr/>
        </p:nvSpPr>
        <p:spPr>
          <a:xfrm>
            <a:off x="7405560" y="2583000"/>
            <a:ext cx="187164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ทศไทยเป็นศูนย์กลางด้านสุขภาพและการรักษาพยาบาลในระดับนานาชาต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560556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6"/>
          <p:cNvSpPr/>
          <p:nvPr/>
        </p:nvSpPr>
        <p:spPr>
          <a:xfrm>
            <a:off x="322884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4"/>
          <p:cNvSpPr/>
          <p:nvPr/>
        </p:nvSpPr>
        <p:spPr>
          <a:xfrm>
            <a:off x="4092480" y="2583000"/>
            <a:ext cx="23050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สุขภาพอนามัยดี มีพฤติกรรมสุขภาพเหมาะสม สามารถควบคุม และลดปัจจัยเสี่ยงต่อโรคเรื้อรัง ภัยพิบัติ และภัย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5389560" y="2376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8"/>
          <p:cNvSpPr/>
          <p:nvPr/>
        </p:nvSpPr>
        <p:spPr>
          <a:xfrm>
            <a:off x="3516480" y="3095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1"/>
          <p:cNvSpPr/>
          <p:nvPr/>
        </p:nvSpPr>
        <p:spPr>
          <a:xfrm>
            <a:off x="351648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1"/>
          <p:cNvSpPr/>
          <p:nvPr/>
        </p:nvSpPr>
        <p:spPr>
          <a:xfrm>
            <a:off x="4524480" y="2952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2"/>
          <p:cNvSpPr/>
          <p:nvPr/>
        </p:nvSpPr>
        <p:spPr>
          <a:xfrm>
            <a:off x="3444840" y="936720"/>
            <a:ext cx="216072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3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จัดให้มีมาตรการสร้างสุขภาพโดยมีเป้าหมาย เพื่อลดอัตราป่วย ตาย และผลกระทบจากโรคไม่ติดต่อเรื้อรัง เช่น โรคเบาหวาน โรคความดันโลหิตสูง โรคหัวใจ โรคหลอดเลือด และโรคมะเร็ง อย่างมีบูรณาการและครบวงจร ตั้งแต่การมีนโยบายสาธารณะที่เอื้อต่อการลดปัจจัยเสี่ยงทางสุขภาพ จัดให้มีการสื่อสารสาธารณะของรัฐเพื่อการปรับเปลี่ยนพฤติกรรมสุขภาพ ให้ความรู้ป้องกันโรคเพื่อการดูแลรักษาสุขภาพตนเองของประชาชนอย่างมีประสิทธิภาพ การสร้างความเข้มแข็งของชุมชน การให้บริการเชิงรุก ตลอดจนคุ้มครองผู้บริโภค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6"/>
          <p:cNvSpPr/>
          <p:nvPr/>
        </p:nvSpPr>
        <p:spPr>
          <a:xfrm>
            <a:off x="654192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44360"/>
            <a:ext cx="78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80" y="1297080"/>
            <a:ext cx="50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076480" y="4316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757920" y="431640"/>
            <a:ext cx="1800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คุ้มครองผู้บริโภคด้านระบบบริการสุขภา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0" y="2232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37356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373560" y="1008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 flipH="1">
            <a:off x="2149560" y="1440000"/>
            <a:ext cx="2448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สามารถพึ่งตนเองด้านสุขภาพได้และระบบสุขภาพภาคประชาชนมีความเข้มแข็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1357200" y="2376360"/>
            <a:ext cx="1511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 flipH="1">
            <a:off x="6108840" y="1440000"/>
            <a:ext cx="3241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ถานบริการสุขภาพ ภาครัฐ  ภาคเอกชน สถานประกอบการเพื่อสุขภาพ และผู้ประกอบโรคศิลปะ มีคุณภาพตามมาตรฐ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652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0" y="1224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769320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7693200" y="1008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-92520" y="23050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ลยุทธ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3805200" y="2376360"/>
            <a:ext cx="158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ศักยภาพและพัฒนาเครือข่ายระบบสุขภาพภาคประชา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6829560" y="2376360"/>
            <a:ext cx="1728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 สนับสนุน พัฒนา และควบคุมกำกับระบบบริการสุขภาพให้ได้คุณภาพมาตรฐ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14956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0" y="3384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0" y="3600360"/>
            <a:ext cx="6364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โคร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าร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ลผลิต</a:t>
            </a:r>
            <a:r>
              <a:rPr b="1" lang="en-US" sz="16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ิจกรรม 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8"/>
          <p:cNvSpPr/>
          <p:nvPr/>
        </p:nvSpPr>
        <p:spPr>
          <a:xfrm>
            <a:off x="6541920" y="3600360"/>
            <a:ext cx="2590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 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ถานบริการสุขภาพภาครัฐ ภาคเอกชน สถานประกอบการเพื่อสุขภาพ และ   ผู้ประกอบโรคศิลปะได้รับการส่งเสริม พัฒนา ควบคุม กำกับ มีมาตรฐานตามที่กฎหมายกำหนด และยกระดับคุณภาพสู่สาก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1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 พัฒนา ควบคุม กำกับสถานบริการสุขภาพภาครัฐ ภาคเอกชน สถานประกอบการเพื่อสุขภาพ ผู้ประกอบโรคศิลปะ และเครือข่ายระบบ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2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ึกษา วิเคราะห์ วิจัยเพื่อการพัฒนา และการบริหารจัดการองค์ก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8"/>
          <p:cNvSpPr/>
          <p:nvPr/>
        </p:nvSpPr>
        <p:spPr>
          <a:xfrm>
            <a:off x="1357200" y="3600360"/>
            <a:ext cx="144000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  ประชาชนกลุ่มเป้าหมายได้รับการถ่ายทอดความรู้ด้าน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ถ่ายทอดความรู้ด้านสุขภาพสู่ประชาชนกลุ่มเป้าหมา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3157560" y="3600360"/>
            <a:ext cx="26636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าสาสมัครสาธารณสุข ประจำหมู่บ้าน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และภาคีเครือข่ายได้รับการส่งเสริมและสนับสนุนให้มีส่วนร่วมในการพัฒนาระบบสุขภาพชุม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1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และสนับสนุนองค์กรอาสาสมัครสาธารณสุขประจำหมู่บ้าน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งค์กรปกครองส่วนท้องถิ่น ภาคีเครือข่ายสุขภาพภาคประชาชนในการจัดการระบบสุขภาพชุม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H SarabunIT๙"/>
                <a:ea typeface="SimSu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ศักยภาพอาสาสมัครสาธารณสุขประจำหมู่บ้าน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)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ในการเฝ้าระวังโรค ป้องกัน และสร้างสุขภาพเชิงรุกในชุมชน ทั้งในภาวะปกติ ภาวะฉุกเฉินและภัยพิบัต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0"/>
          <p:cNvSpPr/>
          <p:nvPr/>
        </p:nvSpPr>
        <p:spPr>
          <a:xfrm>
            <a:off x="459756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4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5"/>
          <p:cNvSpPr/>
          <p:nvPr/>
        </p:nvSpPr>
        <p:spPr>
          <a:xfrm>
            <a:off x="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6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7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8"/>
          <p:cNvSpPr/>
          <p:nvPr/>
        </p:nvSpPr>
        <p:spPr>
          <a:xfrm>
            <a:off x="0" y="9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9"/>
          <p:cNvSpPr/>
          <p:nvPr/>
        </p:nvSpPr>
        <p:spPr>
          <a:xfrm>
            <a:off x="4741920" y="6696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7693200" y="1944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2149560" y="2087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9"/>
          <p:cNvSpPr/>
          <p:nvPr/>
        </p:nvSpPr>
        <p:spPr>
          <a:xfrm>
            <a:off x="3373560" y="197820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7"/>
          <p:cNvSpPr/>
          <p:nvPr/>
        </p:nvSpPr>
        <p:spPr>
          <a:xfrm>
            <a:off x="2149560" y="2087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4597560" y="2087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769320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2:31:49Z</dcterms:created>
  <dc:creator>suchada</dc:creator>
  <dc:description/>
  <dc:language>en-US</dc:language>
  <cp:lastModifiedBy>com</cp:lastModifiedBy>
  <dcterms:modified xsi:type="dcterms:W3CDTF">2011-10-17T07:53:20Z</dcterms:modified>
  <cp:revision>208</cp:revision>
  <dc:subject/>
  <dc:title>PowerPoint Presentation</dc:title>
</cp:coreProperties>
</file>